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AF9-5CBC-4621-8524-DF7FADE3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ve metadata currently a @label in the top level &lt;div&gt; of structMap.  Want to make more flexible to pull from dmdSec and can change depending on what item one is vie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47B-4ECC-46C9-9A50-2AF5771D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363-9FA6-44DB-B720-4FFB9310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300-0CC1-45E9-A082-406DF82E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FA2-62C2-4A0C-AF5A-1154E5C7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4F8-17AA-419E-8FFE-DBFB84A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1FF-50D4-49B6-98F9-30B21E1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19C-8D63-44D7-912C-D3096A7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177-7F50-4B25-8F7A-F5EAD48D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BBE-248F-4772-8560-346C4AA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93C-A949-4C97-B663-4E719E8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0A8-4DF8-4696-B34A-C0643BD2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76A-1558-43F4-AE52-66F1731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5A68-FD88-423E-BD4E-D19F220F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struts.apache.org/" TargetMode="External"/><Relationship Id="rId3" Type="http://schemas.openxmlformats.org/officeDocument/2006/relationships/hyperlink" Target="http://www.castor.org/" TargetMode="External"/><Relationship Id="rId4" Type="http://schemas.openxmlformats.org/officeDocument/2006/relationships/hyperlink" Target="http://ant.apache.org/" TargetMode="External"/><Relationship Id="rId5" Type="http://schemas.openxmlformats.org/officeDocument/2006/relationships/hyperlink" Target="http://jakarta.apache.org/tomca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etsnav-config.xml" TargetMode="External"/><Relationship Id="rId2" Type="http://schemas.openxmlformats.org/officeDocument/2006/relationships/hyperlink" Target="file:///metsnav-config.x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lib.indiana.edu/collections/sheetmusi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rania.dlib.indiana.edu:8080/metsnav/default/welcome.do" TargetMode="External"/><Relationship Id="rId2" Type="http://schemas.openxmlformats.org/officeDocument/2006/relationships/hyperlink" Target="http://urania.dlib.indiana.edu:8080/metsnav/janejohnson/welcome.do" TargetMode="External"/><Relationship Id="rId3" Type="http://schemas.openxmlformats.org/officeDocument/2006/relationships/hyperlink" Target="http://urania.dlib.indiana.edu:8080/metsnav/newton/welcome.do" TargetMode="External"/><Relationship Id="rId4" Type="http://schemas.openxmlformats.org/officeDocument/2006/relationships/hyperlink" Target="http://urania.dlib.indiana.edu:8080/metsnav/newton/welcome.do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METS Navigator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5054400" cy="4802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4080" y="30402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19360" y="259092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4480" y="2286000"/>
            <a:ext cx="358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 Ri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Wal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Dalm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Ji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Librar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Library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-04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METS sections for page turning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&lt;fileSec&gt;&lt;fileGrp USE="screen"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&lt;fileSec&gt;&lt;fileGrp USE="full"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&lt;structMap TYPE="physical"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&lt;structMap TYPE="logical"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METS &lt;div TYPE=""&gt;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/hide nodes in a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g illustrations within a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rk blank p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cate a group of objects to be displayed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y the scope of nav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cate where to find an ID for linking into another ap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 scope for search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6eec"/>
                </a:solidFill>
                <a:latin typeface="Arial"/>
              </a:rPr>
              <a:t>Next steps: Metadata for digital object management</a:t>
            </a:r>
            <a:endParaRPr b="1" lang="en-US" sz="36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Verdana"/>
              </a:rPr>
              <a:t>&lt;metsHdr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Verdana"/>
              </a:rPr>
              <a:t>&lt;fileSec&gt;&lt;fileGrp USE="archive"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Verdana"/>
              </a:rPr>
              <a:t>&lt;dmdSec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ch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ghts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urce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giprovM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6fda"/>
                </a:solidFill>
                <a:latin typeface="Arial"/>
              </a:rPr>
              <a:t>Technological Overview</a:t>
            </a:r>
            <a:endParaRPr b="1" lang="en-US" sz="3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40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ming Language: Java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java.sun.com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60240" indent="-40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Application Framework: Struts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struts.apache.org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60240" indent="-40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&amp; XML Data Binding: Castor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castor.org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60240" indent="-40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 &amp; Deployment Platforms: Ant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ant.apache.org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) &amp; Tomcat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jakarta.apache.org/tomcat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b6fda"/>
                </a:solidFill>
                <a:latin typeface="Arial"/>
              </a:rPr>
              <a:t>Application Structure</a:t>
            </a:r>
            <a:endParaRPr b="1" lang="en-US" sz="3400" spc="-1" strike="noStrike">
              <a:solidFill>
                <a:srgbClr val="7b6ee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9680" y="806400"/>
            <a:ext cx="4483080" cy="58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b6fda"/>
                </a:solidFill>
                <a:latin typeface="Arial"/>
              </a:rPr>
              <a:t>metsnav-config.xml</a:t>
            </a:r>
            <a:endParaRPr b="1" lang="en-US" sz="34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etsnav-confi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.x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b6fda"/>
                </a:solidFill>
                <a:latin typeface="Arial"/>
              </a:rPr>
              <a:t>Release and Distribution Plans</a:t>
            </a:r>
            <a:endParaRPr b="1" lang="en-US" sz="34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S Navigator will be released as an open source project under an IU "BSD-like" license and available from SourceFo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ion will include small, sample collection and multiple display configu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ion will include both .war Web application and .jar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cipated release date: May 31,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Future plans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nd-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mpleme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le display of descriptive meta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configurability of lay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"METS Builder"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user feedback and emerging best practices, continue to revise METS requirements and expec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Contact Info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enn Ril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jenlrile@indiana.ed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hn Walsh (jawalsh@indiana.ed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view and hi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of M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chnological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ture development and release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Overview: What is METS Navigator?</a:t>
            </a: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S Navigator is a METS-based system for displaying and navigating sets of page images or other multi-image digital object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eec"/>
                </a:solidFill>
                <a:latin typeface="Arial"/>
              </a:rPr>
              <a:t>Previous page-turning implementations at IU</a:t>
            </a:r>
            <a:endParaRPr b="1" lang="en-US" sz="28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XS T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xt collec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2000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right American Fi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s TEI-encoded texts with page im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-bui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IU Sheet Musi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es on images present in a certain structure on the fil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ither option extensible enough for future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Why a new page-turner?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S Navigator was built initially to provide access to brittle books digitized by Indiana University Libraries’ Preservation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gnizing the need for such a tool page-turning tool across digital library projects, METS Navigator was built to be extendible and configur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Demo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Default Colle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ample brittle book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Jane Johnson Col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Chymist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of Isaac New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Metadata needs in interface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638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1676520"/>
            <a:ext cx="1600200" cy="472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057400"/>
            <a:ext cx="91440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905120"/>
            <a:ext cx="20574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1905120"/>
            <a:ext cx="13716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876920"/>
            <a:ext cx="68580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614600"/>
            <a:ext cx="144756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193760"/>
            <a:ext cx="5715000" cy="3286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572000"/>
            <a:ext cx="0" cy="533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5105520"/>
            <a:ext cx="1447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4876560"/>
            <a:ext cx="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4876920"/>
            <a:ext cx="137160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229600" y="457164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572000"/>
            <a:ext cx="28195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438280"/>
            <a:ext cx="0" cy="3886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6324480"/>
            <a:ext cx="266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77120" y="51055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477120" y="2437920"/>
            <a:ext cx="0" cy="2133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6324480"/>
            <a:ext cx="20574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6324480"/>
            <a:ext cx="13716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Why choose METS?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wrap the structural, descriptive, and administrative metadata necessary for the interface together in one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exibility in choice of descriptive metadata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t neutr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tly used for S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6eec"/>
                </a:solidFill>
                <a:latin typeface="Arial"/>
              </a:rPr>
              <a:t>Purposes of our METS documents</a:t>
            </a:r>
            <a:endParaRPr b="1" lang="en-US" sz="4000" spc="-1" strike="noStrike">
              <a:solidFill>
                <a:srgbClr val="7b6ee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2580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w: Provide metadata needed by page tur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r: Long term management of  digital library objects in a reposi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7:17:07Z</dcterms:created>
  <dc:creator>Jenn Riley</dc:creator>
  <dc:description/>
  <dc:language>en-US</dc:language>
  <cp:lastModifiedBy>John Walsh</cp:lastModifiedBy>
  <dcterms:modified xsi:type="dcterms:W3CDTF">2005-04-15T17:50:38Z</dcterms:modified>
  <cp:revision>39</cp:revision>
  <dc:subject/>
  <dc:title>PowerPoint Presentation</dc:title>
</cp:coreProperties>
</file>